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8D9-D565-456A-B41E-FB16CBF1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019-1883-43E8-B8F8-96980B15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AD7A-CD50-4D68-A217-2806ACC7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D37B-1966-4C44-8DEC-FC28AE7E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788A-3DCB-43AF-A481-E1E3D981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D05D-E826-4847-87D9-C5310D41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F4A2-8A55-4F87-98C8-6F533A28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4C20-CB13-4965-8625-AF105EA6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E4EA-1DBB-47FC-881B-20DE0F67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D218-BE39-44BF-B2B5-1782F6A7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068D-7CB5-45E4-8F9F-FC7C7577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8936-4205-47D4-9A76-09E02B59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B329-2BD1-4864-8D87-D397C65D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2A79-A1A6-4B03-BD69-BB915C9C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1A20-B22F-432C-B026-B9A94A56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39EB-B188-49C3-BC60-CB8CA0CE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0C71-AD56-4BA7-9BFA-C8ED54E7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2AB5-F87F-4A84-AB1B-615C71BD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745-3611-4E78-9DE4-E9E5D2BF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115-2DC4-4A77-B3D9-B6CC3AF9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A27-9117-4321-BBBD-9E2ACC06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C54D-4918-4980-BF00-BC9D6546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BE2B-9984-4218-ADBB-C9285037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173C-460D-41F5-843F-1E942E4C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24D4-88A2-407C-B82C-AA048FCE48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7465-0F0D-439F-908B-083AF28556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glish-Sept.1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sh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ish 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 homework sto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ion questions with a part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noun pack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lly’s t-shirt has the latin phrase cave canem (beware of the dog) and pictures of these three well known dogs a german shepherd an english sheepdog and a beag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ffaw:laugh::_______:tal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ar:Century::cent: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ssign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ish 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partner discussion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3:20:28Z</dcterms:created>
  <dc:creator>VMS</dc:creator>
  <dc:description/>
  <dc:language>en-US</dc:language>
  <cp:lastModifiedBy>VMS</cp:lastModifiedBy>
  <dcterms:modified xsi:type="dcterms:W3CDTF">2009-09-10T14:29:45Z</dcterms:modified>
  <cp:revision>2</cp:revision>
  <dc:subject/>
  <dc:title>English-Sept.10</dc:title>
</cp:coreProperties>
</file>